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wmf" ContentType="image/x-wmf"/>
  <Override PartName="/ppt/media/image1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75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3600" indent="-2030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isetti@dis.uniroma1.i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0.wm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68120"/>
            <a:ext cx="860724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Sequential Simulation Based Methods for Dense Sensor SL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2565000" y="5974920"/>
            <a:ext cx="49784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orgio Grise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grisetti@dis.uniroma1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4653000" y="3459240"/>
            <a:ext cx="3612960" cy="26701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1704960" y="2906640"/>
            <a:ext cx="37195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360360" y="3132000"/>
            <a:ext cx="94550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lnSpc>
                <a:spcPct val="116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rect loop detection       Uncertain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5400" y="44280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o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18920" y="176328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art of the robot trajectory in which the first and the last sight are overl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12880" y="3794040"/>
            <a:ext cx="3827520" cy="3119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94240" y="3809880"/>
            <a:ext cx="2963880" cy="3071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80000" y="3348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8920" y="466200"/>
            <a:ext cx="860724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Line Estim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43320" y="1428840"/>
            <a:ext cx="5316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08000" y="5651640"/>
            <a:ext cx="810432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the on-line techniques Bayes Filters are the most used tools in SL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63640" y="1539720"/>
          <a:ext cx="8209080" cy="3945240"/>
        </p:xfrm>
        <a:graphic>
          <a:graphicData uri="http://schemas.openxmlformats.org/drawingml/2006/table">
            <a:tbl>
              <a:tblPr/>
              <a:tblGrid>
                <a:gridCol w="2050920"/>
                <a:gridCol w="2054160"/>
                <a:gridCol w="2052720"/>
                <a:gridCol w="20512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 lo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 pa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 h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man Fil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 Fil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Likelihoo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460080"/>
            <a:ext cx="8607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 Fil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33240" y="1676520"/>
            <a:ext cx="860760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LAM as a state estimation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03640" y="2627280"/>
            <a:ext cx="4528800" cy="264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6440" y="5683320"/>
            <a:ext cx="195912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92360" y="5651640"/>
                <a:ext cx="2139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: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824360" y="5651640"/>
            <a:ext cx="11937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977080" y="5651640"/>
                <a:ext cx="8046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: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 Filtering and 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93720" y="1925280"/>
            <a:ext cx="8607600" cy="23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space of the dynamic system is the cross product among maps and robot 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4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estima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4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952720" y="4211640"/>
                <a:ext cx="32115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: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808360" y="5796000"/>
            <a:ext cx="13557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68720" y="5796000"/>
            <a:ext cx="13557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311640" y="507528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608000" y="5074920"/>
            <a:ext cx="576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3840" y="4032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ov Assum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72760" y="1734840"/>
            <a:ext cx="860724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Markov assumption holds we c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urs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timate the stat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46000" y="3152880"/>
                <a:ext cx="852804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:t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=η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: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: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η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: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 flipH="1" flipV="1">
            <a:off x="6595560" y="4902120"/>
            <a:ext cx="941400" cy="77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77040" y="5580000"/>
            <a:ext cx="19461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1520" y="5495760"/>
            <a:ext cx="19461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1360" y="5803920"/>
            <a:ext cx="194652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414440" y="5040000"/>
            <a:ext cx="54612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160880" y="5041440"/>
            <a:ext cx="1440" cy="87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4760" y="395280"/>
            <a:ext cx="860724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53840" y="1450800"/>
            <a:ext cx="86072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different assumptions on the observed system, and the noise model leads to different filtering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871640" y="3492360"/>
          <a:ext cx="5942160" cy="3287520"/>
        </p:xfrm>
        <a:graphic>
          <a:graphicData uri="http://schemas.openxmlformats.org/drawingml/2006/table">
            <a:tbl>
              <a:tblPr/>
              <a:tblGrid>
                <a:gridCol w="1979640"/>
                <a:gridCol w="1982880"/>
                <a:gridCol w="197964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iz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d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507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lman Filters and SL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000" y="1035000"/>
            <a:ext cx="8607240" cy="33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s a lineariz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space is the landmark and robot pos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correlated posterior  represented with mean and 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tical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19160" y="4905360"/>
            <a:ext cx="6073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not always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not made by land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mark identification can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0603400">
            <a:off x="2231640" y="5508720"/>
            <a:ext cx="456264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4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lt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il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76720" y="4021200"/>
            <a:ext cx="6843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81480" y="3521160"/>
            <a:ext cx="29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507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le Filters and SL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47640" y="900000"/>
            <a:ext cx="860760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s an arbitrary system. State space is the robot 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o use dense ma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represented as trajectories and conditional ma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pose update, analytical map up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Hypo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44720" y="5435640"/>
            <a:ext cx="6073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lear how many samples ar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ble to revise the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6720" y="4643280"/>
            <a:ext cx="6843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1480" y="3521160"/>
            <a:ext cx="29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le Filter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7972560" cy="29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represented in sampled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40360" y="2700360"/>
            <a:ext cx="2755800" cy="100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276200" y="2843280"/>
                <a:ext cx="30639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:</m:t>
                                </m:r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: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22880" y="4067280"/>
            <a:ext cx="61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ly one would draw sampl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168720" y="4643280"/>
                <a:ext cx="26431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21440" y="5724360"/>
            <a:ext cx="84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mpossible since a closed form is generally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Sampling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7280" y="2006640"/>
            <a:ext cx="4226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know a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103640" y="1908000"/>
                <a:ext cx="10080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968720" y="1908000"/>
            <a:ext cx="511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similar to           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8136000" y="1908000"/>
                <a:ext cx="9367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27120" y="259560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095640" y="2556000"/>
                <a:ext cx="1008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020120" y="261288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valu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480000" y="2627280"/>
                <a:ext cx="936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7347600" y="262728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wis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8720" y="3348000"/>
            <a:ext cx="15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232000" y="3059280"/>
                <a:ext cx="461340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:</m:t>
                                </m:r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: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727280" y="4681440"/>
                <a:ext cx="24480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50520" y="500364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92720" y="4211640"/>
            <a:ext cx="5400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bile robot should be able to navig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ition can be know up to the map knowl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asks make it impossible to know the map (e.g. explor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ring the map is essential for moving towards fully autonomous robo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tial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23640"/>
            <a:ext cx="890892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problem is to carry on the estimate without changing the past generated trajec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possible if choosing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of a particular for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luar cas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27640" y="305928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71480" y="439596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i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5600" y="5641920"/>
            <a:ext cx="501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ormed transi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55640" y="5003640"/>
            <a:ext cx="2160720" cy="570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822920" y="5021280"/>
            <a:ext cx="2881080" cy="558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655640" y="6318360"/>
            <a:ext cx="2521080" cy="55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824360" y="6300720"/>
            <a:ext cx="28796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-734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le Filter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258560"/>
            <a:ext cx="422604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samples for the next gen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727280" y="4356000"/>
                <a:ext cx="16574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:</m:t>
                            </m:r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:</m:t>
                            </m:r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755640" y="4262400"/>
            <a:ext cx="86058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640" y="2987640"/>
            <a:ext cx="47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importance weights, according to I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640" y="5580000"/>
            <a:ext cx="403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ress degeneracy by re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27280" y="2322360"/>
                <a:ext cx="15127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68720" y="1332000"/>
            <a:ext cx="4248360" cy="419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824360" y="2195640"/>
            <a:ext cx="4896000" cy="590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968720" y="4356000"/>
            <a:ext cx="4824720" cy="601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896000" y="5940360"/>
            <a:ext cx="5184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 in Particle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oose the Importance Fun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perform resampl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exist a quality measure for the estim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 the I.F. is system dependent. The I.F. tuning strongly influences the P.F.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ampling can kill good trajec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good approximation the sample weights should be eq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31640" y="1476360"/>
            <a:ext cx="6408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es on the following factor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863640" y="466560"/>
            <a:ext cx="85694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BPF Particle Filters and SLA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92000" y="2050920"/>
                <a:ext cx="8569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48720" y="3132000"/>
            <a:ext cx="719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independently the trajectori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maps conditioned to the traj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8720" y="4427640"/>
            <a:ext cx="82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sampled representation of the trajectori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update analytically the m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008000" y="5580000"/>
                <a:ext cx="8167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|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sSub>
                      <m:e>
                        <m:r>
                          <m:t xml:space="preserve">δ</m:t>
                        </m:r>
                      </m:e>
                      <m: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:</m:t>
                            </m:r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6986880" y="680400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jectory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05800" y="6804000"/>
            <a:ext cx="26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ing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8136000" y="6300360"/>
            <a:ext cx="433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335640" y="6156360"/>
            <a:ext cx="6494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4160" y="6443640"/>
            <a:ext cx="26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103640" y="615636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BPF Particle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795760" y="31449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44720" y="3924360"/>
            <a:ext cx="4608360" cy="1092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087640" y="2484360"/>
            <a:ext cx="4392360" cy="588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21080" y="1835280"/>
            <a:ext cx="65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next pose sample from an I.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9280" y="3332160"/>
            <a:ext cx="60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e weight according to I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2160" y="5003640"/>
            <a:ext cx="19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1440" y="5724360"/>
            <a:ext cx="28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the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600360" y="5651640"/>
                <a:ext cx="27352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00" y="324000"/>
            <a:ext cx="8606160" cy="9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SL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6920" y="1834920"/>
            <a:ext cx="5040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mark based ma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 Filter for robot trajec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Kalman Filter for Landma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Model chosen as I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191200" y="2058840"/>
          <a:ext cx="447192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0" y="2058840"/>
                    <a:ext cx="447192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39440" y="39492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 FastSL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440" y="1835280"/>
            <a:ext cx="833292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p for each pos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the odometry  model as transition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24000" y="2936880"/>
            <a:ext cx="7921440" cy="2357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63640" y="5600880"/>
            <a:ext cx="833292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ometry improved through scan-m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 peaked w.r.t. transi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8920" y="39492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SLAM weak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39440" y="1692360"/>
            <a:ext cx="840420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odometry as I.F. and an accurate sensor requires an high number of s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samples are wasted in the weighting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articles required for convergence in principle grows exponentially with the path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ampling can kill the good m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79640" y="4643280"/>
            <a:ext cx="4227480" cy="2281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761080" y="4356000"/>
            <a:ext cx="388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samples only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00720" y="5580000"/>
            <a:ext cx="403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ctive resam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16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GridFastSL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7640" y="2101320"/>
            <a:ext cx="8261280" cy="45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from an informed transition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 available in close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resampling only when the quality of the approximation gets wo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to decide when to resam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00720" y="5580000"/>
            <a:ext cx="403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36720" y="6227640"/>
            <a:ext cx="8404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664000" y="2700360"/>
                <a:ext cx="42274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371840" y="2556000"/>
            <a:ext cx="10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d Proposal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27280" y="3132000"/>
                <a:ext cx="18730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1081440" y="183528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Sen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82160" y="2771640"/>
            <a:ext cx="30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ked pikelih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81800" y="399564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ked informed I.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52360" y="5796000"/>
            <a:ext cx="25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gaussian approx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6520" y="2266920"/>
            <a:ext cx="320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ample form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ked I.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96000" y="378000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proa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3640" y="234000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295280" y="4427640"/>
                <a:ext cx="30974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∝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303640" y="363528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76360" y="536400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76360" y="673272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183528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2749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2020200">
            <a:off x="5977080" y="478764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9677600">
            <a:off x="7056360" y="478764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90000" y="5692680"/>
            <a:ext cx="16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56320" y="572436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re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1560" y="183492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uilding a map the robot requires to be aware of its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in the pose affects in the map, and vice-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p and the pose should be concurrently evalu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AM=Simultaneous Localization and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8920" y="39492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16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the likeli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008000" y="1332000"/>
            <a:ext cx="7705800" cy="1342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184720" y="4643280"/>
            <a:ext cx="3981600" cy="771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753080" y="5796000"/>
            <a:ext cx="4225680" cy="10112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863640" y="2916360"/>
            <a:ext cx="4227480" cy="2280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970880" y="3203640"/>
            <a:ext cx="477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kelihood is peaked w.r.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od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onsider i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1368360" y="5940360"/>
            <a:ext cx="3409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16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ng the closed f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79640" y="2556000"/>
            <a:ext cx="8353440" cy="1110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095640" y="3851280"/>
            <a:ext cx="4227480" cy="11764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2087640" y="1619280"/>
            <a:ext cx="5743440" cy="1038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152360" y="4932360"/>
            <a:ext cx="806616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16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mportance we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47728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Samping principle still hol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92000" y="2843280"/>
            <a:ext cx="4969080" cy="1033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016000" y="4356000"/>
            <a:ext cx="5759640" cy="1782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232000" y="3635280"/>
            <a:ext cx="6121440" cy="922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232000" y="5724360"/>
            <a:ext cx="1495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16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am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92000" y="2124000"/>
            <a:ext cx="90727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quality factor for the particle approx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ideal case the weights would be eq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irect measure of the weights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ample when it drops below a given thres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6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944720" y="2771640"/>
            <a:ext cx="5832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6000" y="3236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16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6360" y="1402920"/>
            <a:ext cx="905328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the odome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local maxima of the scan match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106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e particle m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likelihood statistics, and draw a  new s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we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ff&gt;thresh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new map given the 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16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the imporved propo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9280" y="1835280"/>
            <a:ext cx="907416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vironment dependent particle dispersion w/o resamp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der of magnitude less particle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224000" y="3564000"/>
            <a:ext cx="7920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7280" y="324000"/>
            <a:ext cx="860580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16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ff Behav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152360" y="1042920"/>
            <a:ext cx="8209080" cy="4386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655640" y="5724360"/>
            <a:ext cx="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16000" indent="-216000" algn="ctr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00360" y="5364000"/>
            <a:ext cx="201600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decay in th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92720" y="5867280"/>
            <a:ext cx="201600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Dro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72360" y="5435640"/>
            <a:ext cx="201600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in the 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024360" y="3995280"/>
            <a:ext cx="1584000" cy="15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384720" y="2700360"/>
            <a:ext cx="3240000" cy="2448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7280" y="323640"/>
            <a:ext cx="860580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16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 Killian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60360" y="1258920"/>
            <a:ext cx="7056360" cy="5587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704000" y="1332000"/>
            <a:ext cx="2160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lnSpc>
                <a:spcPct val="116000"/>
              </a:lnSpc>
              <a:spcBef>
                <a:spcPts val="275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35640" y="1332000"/>
            <a:ext cx="2735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lnSpc>
                <a:spcPct val="116000"/>
              </a:lnSpc>
              <a:spcBef>
                <a:spcPts val="275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88360" y="1258920"/>
            <a:ext cx="295092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9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h acquisiti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h process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16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iburg Ca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47640" y="1908000"/>
            <a:ext cx="6288120" cy="4761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201080" y="1979640"/>
            <a:ext cx="266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lnSpc>
                <a:spcPct val="116000"/>
              </a:lnSpc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29440" y="1979640"/>
            <a:ext cx="295128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h acquisiti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’ process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16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764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der of magnitude less particles than similar approa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line maps of big enviro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experiments on third party logs confirmed the validity of the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ww.informatik.uni-freiburg.de/~stachn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5400" y="522000"/>
            <a:ext cx="860760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of this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9320" y="1641240"/>
            <a:ext cx="8825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n overview of the SLAM techni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the Bayesian approach to SL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Rao-Blackwellized particle fil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overview of a state of the art SLAM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18920" y="2050920"/>
            <a:ext cx="8605800" cy="20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it the loop/non-loop situation for increasing the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the past trajectories with smo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2360" y="4211640"/>
            <a:ext cx="86364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08360" y="4140360"/>
            <a:ext cx="107964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788000"/>
            <a:ext cx="10080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lnSpc>
                <a:spcPct val="116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pper goa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079640" indent="-216000" algn="ctr">
              <a:lnSpc>
                <a:spcPct val="116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 update, linear loop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 in SL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8800" y="2401560"/>
            <a:ext cx="8607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4000"/>
              </a:lnSpc>
              <a:spcBef>
                <a:spcPts val="1137"/>
              </a:spcBef>
              <a:spcAft>
                <a:spcPts val="25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? What does it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24000"/>
              </a:lnSpc>
              <a:spcBef>
                <a:spcPts val="1137"/>
              </a:spcBef>
              <a:spcAft>
                <a:spcPts val="25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present a 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24000"/>
              </a:lnSpc>
              <a:spcBef>
                <a:spcPts val="1137"/>
              </a:spcBef>
              <a:spcAft>
                <a:spcPts val="25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lgorithm to cho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24000"/>
              </a:lnSpc>
              <a:spcBef>
                <a:spcPts val="1137"/>
              </a:spcBef>
              <a:spcAft>
                <a:spcPts val="25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op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600" y="-1112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47640" y="1258560"/>
            <a:ext cx="86076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ot moves in an unknown environm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cquire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781360" y="3419640"/>
                <a:ext cx="8636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: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473720" y="3405240"/>
                <a:ext cx="8697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: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14560" y="5294160"/>
                <a:ext cx="806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: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916520" y="5256360"/>
                <a:ext cx="6984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17400" y="2948040"/>
            <a:ext cx="816768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mes as noisy measuremen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040" y="4842000"/>
            <a:ext cx="40622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determ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8240" y="4305240"/>
            <a:ext cx="26434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m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45080" y="4284720"/>
            <a:ext cx="18399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27240" y="4079880"/>
            <a:ext cx="7840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327280" y="4067280"/>
            <a:ext cx="865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28880" y="6107040"/>
            <a:ext cx="1576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97360" y="6080040"/>
            <a:ext cx="6908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74800" y="5938560"/>
            <a:ext cx="42084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559480" y="5969160"/>
            <a:ext cx="29664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6720" y="6532560"/>
            <a:ext cx="73962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best explains that measu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39636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stic Mapp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64840" y="1560240"/>
            <a:ext cx="860724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map and a robot trajectory that maximizes the likelihood of a set of sensor rea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64000" y="5364000"/>
                <a:ext cx="35924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,x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: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: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719280" y="3635280"/>
            <a:ext cx="93614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l minima      Greedy search 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0200" y="4572000"/>
            <a:ext cx="842652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 a posterior ov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jecto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84720" y="3851280"/>
            <a:ext cx="502920" cy="289080"/>
          </a:xfrm>
          <a:prstGeom prst="rightArrow">
            <a:avLst>
              <a:gd name="adj1" fmla="val 50000"/>
              <a:gd name="adj2" fmla="val 4349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Repres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e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implement and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es inter-cell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ly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mark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o represent a full pos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a lot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12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8920" y="2509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ons and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3600" y="5418000"/>
            <a:ext cx="1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19280" y="1403280"/>
          <a:ext cx="8605800" cy="5461200"/>
        </p:xfrm>
        <a:graphic>
          <a:graphicData uri="http://schemas.openxmlformats.org/drawingml/2006/table">
            <a:tbl>
              <a:tblPr/>
              <a:tblGrid>
                <a:gridCol w="2868480"/>
                <a:gridCol w="2868840"/>
                <a:gridCol w="28684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mar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man Fil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 Fil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Likelihoo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M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pite</cp:lastModifiedBy>
  <dcterms:modified xsi:type="dcterms:W3CDTF">2004-12-07T11:44:29Z</dcterms:modified>
  <cp:revision>27</cp:revision>
  <dc:subject/>
  <dc:title>Improving Sequential Simulation Based Methods for Dense Sensor SLAM</dc:title>
</cp:coreProperties>
</file>